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4D5-C8B8-486B-B59E-50566310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CEE-8734-4316-9E21-FE942D2C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7BC-7AE0-4D41-9781-05F0DB4B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5F5-BA1D-4DB9-8B76-8F483CDA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DBC-7263-488F-8185-268903D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565-2A6D-4C87-92B1-209B4DB3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6D2-081C-4088-9A5D-6A69DC68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6CE-8B97-42DB-8B11-8023C761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33F-7752-4458-BB43-72897E28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3BF-25DF-4A67-8B90-F78EBED4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305-584D-4741-A2CE-E49CCF26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020-A20A-4803-A663-B1C01D6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08AB-5BEE-4D6C-92C6-B4D7AB2F0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3523320" y="-2702880"/>
            <a:ext cx="216000" cy="645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8240" y="22161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66"/>
                </a:solidFill>
                <a:latin typeface="Impact"/>
              </a:rPr>
              <a:t>MINISTERUL</a:t>
            </a:r>
            <a:r>
              <a:rPr b="1" lang="en-US" sz="2200" spc="-1" strike="noStrike">
                <a:solidFill>
                  <a:srgbClr val="000066"/>
                </a:solidFill>
                <a:latin typeface="Impact"/>
              </a:rPr>
              <a:t>  ECONOMIEI  SI FINANTE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33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76640" y="46656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3813120"/>
            <a:ext cx="4896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66"/>
                </a:solidFill>
                <a:latin typeface="Arial"/>
              </a:rPr>
              <a:t>SCRISOARE CAD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privind contextul macroeconomic, metodologia de elaborare a proiectelor de buget pe anul 20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şi a estimărilor pentru anii 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-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, precum şi limi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umelor defalcate din taxa pe valoarea adăugată pentru echilibrarea bugetelor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541320" y="-2863800"/>
            <a:ext cx="179640" cy="645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3555000" y="-2518560"/>
            <a:ext cx="152280" cy="6453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89240" y="907920"/>
            <a:ext cx="87156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46320" y="86979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VOLUMUL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5:41:05Z</dcterms:created>
  <dc:creator>gabi</dc:creator>
  <dc:description/>
  <dc:language>en-US</dc:language>
  <cp:lastModifiedBy>denisa</cp:lastModifiedBy>
  <dcterms:modified xsi:type="dcterms:W3CDTF">2008-08-14T06:29:15Z</dcterms:modified>
  <cp:revision>17</cp:revision>
  <dc:subject/>
  <dc:title>Diapozitivul 1</dc:title>
</cp:coreProperties>
</file>