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6BA-0919-4D7F-8D8E-50D9CA13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965-E1AB-4382-AF97-DCECA598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FE6-5D77-4CA2-8C10-BE422130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B7E-E576-41D0-AC09-F1A1BAF9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54D-2991-49DC-9C57-F46A39D3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F9C-614E-4248-AFD3-C0507484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DB2-0556-4DA9-83D8-FC29436B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68C-F73D-4150-BD27-4A9B8F2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1F4-5034-4B80-BF34-38E12ED5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1BD-ED9F-45AD-98C1-E8251AB7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F22-C575-41A4-BA21-017329F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446-A5A7-48BE-9AB5-E631B84D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6235-3892-4C0F-9493-73792A82C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523320" y="-2702880"/>
            <a:ext cx="216000" cy="645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8240" y="22161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66"/>
                </a:solidFill>
                <a:latin typeface="Impact"/>
              </a:rPr>
              <a:t>MINISTERUL</a:t>
            </a:r>
            <a:r>
              <a:rPr b="1" lang="en-US" sz="2200" spc="-1" strike="noStrike">
                <a:solidFill>
                  <a:srgbClr val="000066"/>
                </a:solidFill>
                <a:latin typeface="Impact"/>
              </a:rPr>
              <a:t>  ECONOMIEI  SI FINANTE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33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76640" y="46656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3813120"/>
            <a:ext cx="4896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66"/>
                </a:solidFill>
                <a:latin typeface="Arial"/>
              </a:rPr>
              <a:t>SCRISOARE CAD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privind contextul macroeconomic, metodologia de elaborare a proiectelor de buget pe anul 20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şi a estimărilor pentru anii 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-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, precum şi limi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umelor defalcate din taxa pe valoarea adăugată pentru echilibrarea bugete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541320" y="-2863800"/>
            <a:ext cx="179640" cy="645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3555000" y="-2518560"/>
            <a:ext cx="152280" cy="645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89240" y="907920"/>
            <a:ext cx="87156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46320" y="86979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OLUMUL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5:41:05Z</dcterms:created>
  <dc:creator>gabi</dc:creator>
  <dc:description/>
  <dc:language>en-US</dc:language>
  <cp:lastModifiedBy>denisa</cp:lastModifiedBy>
  <dcterms:modified xsi:type="dcterms:W3CDTF">2008-08-14T06:30:14Z</dcterms:modified>
  <cp:revision>18</cp:revision>
  <dc:subject/>
  <dc:title>Diapozitivul 1</dc:title>
</cp:coreProperties>
</file>